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CD6F50-91E6-4A2A-893B-8FD395321E5E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52FB87-B383-46F6-9323-C36903532E62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429D9C-3839-4355-8AE6-27E4117FDC19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461371-893E-468F-8481-9BE4E00463E5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AB6D66-B28B-4ED0-973A-FE7A32E77959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DB5D01-5E8C-40AB-A4A7-4DE9066D5B91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BC3D61-25A6-47C6-9CAB-25739262E88C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A251AF-8E6E-41C5-B839-57F4C77299A5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026D42-12A9-4E58-8B8D-68E13EF4A961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F8A3F6-F013-4192-8F69-33F9BC75286A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31EE96-AA3C-434C-A654-2C1724C25238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90FF4C-501E-43C2-8F88-EC79FB4C16F0}" type="slidenum"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F33C-49B4-4BF9-9142-8086E461E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52EF-D7FC-4614-A325-1E23F686B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C3E9-6E33-41F4-88C8-64CC89C22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FFCF-91E5-4DDE-A789-882F9E08E3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A182-C878-4ED8-A245-51CEAC4934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F4F4-6E31-4523-A4D8-62D30C060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2C2C-5D7E-4E7F-A1A4-127E119B2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6596-AC60-4F39-8933-4137B8527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1E6E-78E0-4797-8D01-6B692376B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FBD5-C21D-4196-AC61-2AB970F61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122B-B9E0-444B-B3E3-AF59F0924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C5A0-ED7F-4A51-9EEA-9F0F21F7E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2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FA9915-348F-4623-87C8-2A428CC18532}" type="slidenum"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2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304920" y="3962520"/>
            <a:ext cx="8534160" cy="1447560"/>
          </a:xfrm>
          <a:prstGeom prst="rect">
            <a:avLst/>
          </a:prstGeom>
          <a:solidFill>
            <a:srgbClr val="ddddd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179280" y="3886200"/>
            <a:ext cx="885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ORSO CICLO-PEDONALE IN VIA GIARDINI</a:t>
            </a:r>
            <a:r>
              <a:rPr b="0" lang="it-IT" sz="2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2600"/>
            </a:b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 P.le Risorgimento a Viale Corassori</a:t>
            </a: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1877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100"/>
            </a:br>
            <a:endParaRPr b="1" lang="en-US" sz="11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-214200" y="13572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748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UNE DI MODENA</a:t>
            </a:r>
            <a:endParaRPr b="1" lang="en-US" sz="2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-142920" y="2060640"/>
            <a:ext cx="91440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7480" rIns="90000" tIns="46800" bIns="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TTORE LAVORI PUBBLICI</a:t>
            </a:r>
            <a:endParaRPr b="1" lang="en-US" sz="22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RVIZIO URBANIZZAZIONI E NUOVE INFRASTRUTTURE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04920" y="62485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29 Novembre 2013</a:t>
            </a:r>
            <a:endParaRPr b="1" lang="en-US" sz="18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rcRect l="30020" t="0" r="30020" b="20008"/>
          <a:stretch/>
        </p:blipFill>
        <p:spPr>
          <a:xfrm>
            <a:off x="3929040" y="214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28360" y="-2092320"/>
            <a:ext cx="979200" cy="81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-2916360" y="30312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4"/>
          <p:cNvSpPr/>
          <p:nvPr/>
        </p:nvSpPr>
        <p:spPr>
          <a:xfrm>
            <a:off x="5075280" y="1052640"/>
            <a:ext cx="1368360" cy="136836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02" y="10800"/>
                </a:moveTo>
                <a:cubicBezTo>
                  <a:pt x="1002" y="16211"/>
                  <a:pt x="5389" y="20598"/>
                  <a:pt x="10800" y="20598"/>
                </a:cubicBezTo>
                <a:cubicBezTo>
                  <a:pt x="16211" y="20598"/>
                  <a:pt x="20598" y="16211"/>
                  <a:pt x="20598" y="10800"/>
                </a:cubicBezTo>
                <a:cubicBezTo>
                  <a:pt x="20598" y="5389"/>
                  <a:pt x="16211" y="1002"/>
                  <a:pt x="10800" y="1002"/>
                </a:cubicBezTo>
                <a:cubicBezTo>
                  <a:pt x="5389" y="1002"/>
                  <a:pt x="1002" y="5389"/>
                  <a:pt x="1002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3780000" y="1341360"/>
            <a:ext cx="1368360" cy="136836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02" y="10800"/>
                </a:moveTo>
                <a:cubicBezTo>
                  <a:pt x="1002" y="16211"/>
                  <a:pt x="5389" y="20598"/>
                  <a:pt x="10800" y="20598"/>
                </a:cubicBezTo>
                <a:cubicBezTo>
                  <a:pt x="16211" y="20598"/>
                  <a:pt x="20598" y="16211"/>
                  <a:pt x="20598" y="10800"/>
                </a:cubicBezTo>
                <a:cubicBezTo>
                  <a:pt x="20598" y="5389"/>
                  <a:pt x="16211" y="1002"/>
                  <a:pt x="10800" y="1002"/>
                </a:cubicBezTo>
                <a:cubicBezTo>
                  <a:pt x="5389" y="1002"/>
                  <a:pt x="1002" y="5389"/>
                  <a:pt x="1002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6516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6392880" y="0"/>
            <a:ext cx="27511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34920" y="2001960"/>
            <a:ext cx="6372360" cy="358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4"/>
          <a:stretch/>
        </p:blipFill>
        <p:spPr>
          <a:xfrm>
            <a:off x="0" y="1073160"/>
            <a:ext cx="6372360" cy="43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756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"/>
          <p:cNvSpPr/>
          <p:nvPr/>
        </p:nvSpPr>
        <p:spPr>
          <a:xfrm>
            <a:off x="2124000" y="1341360"/>
            <a:ext cx="1368360" cy="136836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02" y="10800"/>
                </a:moveTo>
                <a:cubicBezTo>
                  <a:pt x="1002" y="16211"/>
                  <a:pt x="5389" y="20598"/>
                  <a:pt x="10800" y="20598"/>
                </a:cubicBezTo>
                <a:cubicBezTo>
                  <a:pt x="16211" y="20598"/>
                  <a:pt x="20598" y="16211"/>
                  <a:pt x="20598" y="10800"/>
                </a:cubicBezTo>
                <a:cubicBezTo>
                  <a:pt x="20598" y="5389"/>
                  <a:pt x="16211" y="1002"/>
                  <a:pt x="10800" y="1002"/>
                </a:cubicBezTo>
                <a:cubicBezTo>
                  <a:pt x="5389" y="1002"/>
                  <a:pt x="1002" y="5389"/>
                  <a:pt x="1002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356000" y="1341360"/>
            <a:ext cx="1368360" cy="136836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02" y="10800"/>
                </a:moveTo>
                <a:cubicBezTo>
                  <a:pt x="1002" y="16211"/>
                  <a:pt x="5389" y="20598"/>
                  <a:pt x="10800" y="20598"/>
                </a:cubicBezTo>
                <a:cubicBezTo>
                  <a:pt x="16211" y="20598"/>
                  <a:pt x="20598" y="16211"/>
                  <a:pt x="20598" y="10800"/>
                </a:cubicBezTo>
                <a:cubicBezTo>
                  <a:pt x="20598" y="5389"/>
                  <a:pt x="16211" y="1002"/>
                  <a:pt x="10800" y="1002"/>
                </a:cubicBezTo>
                <a:cubicBezTo>
                  <a:pt x="5389" y="1002"/>
                  <a:pt x="1002" y="5389"/>
                  <a:pt x="1002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360" y="-2092320"/>
            <a:ext cx="979200" cy="81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5"/>
          <p:cNvSpPr/>
          <p:nvPr/>
        </p:nvSpPr>
        <p:spPr>
          <a:xfrm flipV="1">
            <a:off x="5076720" y="2851200"/>
            <a:ext cx="574920" cy="21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644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6392880" y="0"/>
            <a:ext cx="27511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0" y="1268280"/>
            <a:ext cx="6372360" cy="4457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0" y="1197000"/>
            <a:ext cx="6443640" cy="44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-171360" y="-390600"/>
            <a:ext cx="9486720" cy="763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-302400"/>
            <a:ext cx="37432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it-IT" sz="4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50012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87280" y="1365120"/>
            <a:ext cx="8605800" cy="41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-3059280" y="11592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800" spc="-1" strike="noStrike" u="sng">
                <a:solidFill>
                  <a:srgbClr val="000000"/>
                </a:solidFill>
                <a:uFillTx/>
                <a:latin typeface="Garamond"/>
                <a:ea typeface="Arial"/>
              </a:rPr>
              <a:t>la collina</a:t>
            </a:r>
            <a:r>
              <a:rPr b="0" lang="it-IT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endParaRPr b="1" lang="en-US" sz="4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5160" y="287280"/>
            <a:ext cx="4435560" cy="638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65520" y="287280"/>
            <a:ext cx="454356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-1549440" y="18900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479840" y="287280"/>
            <a:ext cx="4629240" cy="638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4920" y="287280"/>
            <a:ext cx="441180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360" y="-2092320"/>
            <a:ext cx="979200" cy="81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-2916360" y="30312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67400" y="189000"/>
            <a:ext cx="4441680" cy="6481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48632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28360" y="-2092320"/>
            <a:ext cx="979200" cy="81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-2916360" y="30312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2071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4"/>
          <p:cNvSpPr/>
          <p:nvPr/>
        </p:nvSpPr>
        <p:spPr>
          <a:xfrm>
            <a:off x="3564000" y="1341360"/>
            <a:ext cx="1368360" cy="136836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02" y="10800"/>
                </a:moveTo>
                <a:cubicBezTo>
                  <a:pt x="1002" y="16211"/>
                  <a:pt x="5389" y="20598"/>
                  <a:pt x="10800" y="20598"/>
                </a:cubicBezTo>
                <a:cubicBezTo>
                  <a:pt x="16211" y="20598"/>
                  <a:pt x="20598" y="16211"/>
                  <a:pt x="20598" y="10800"/>
                </a:cubicBezTo>
                <a:cubicBezTo>
                  <a:pt x="20598" y="5389"/>
                  <a:pt x="16211" y="1002"/>
                  <a:pt x="10800" y="1002"/>
                </a:cubicBezTo>
                <a:cubicBezTo>
                  <a:pt x="5389" y="1002"/>
                  <a:pt x="1002" y="5389"/>
                  <a:pt x="1002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6516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392880" y="0"/>
            <a:ext cx="2751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7"/>
          <p:cNvSpPr/>
          <p:nvPr/>
        </p:nvSpPr>
        <p:spPr>
          <a:xfrm>
            <a:off x="4932360" y="1557360"/>
            <a:ext cx="1368360" cy="136836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02" y="10800"/>
                </a:moveTo>
                <a:cubicBezTo>
                  <a:pt x="1002" y="16211"/>
                  <a:pt x="5389" y="20598"/>
                  <a:pt x="10800" y="20598"/>
                </a:cubicBezTo>
                <a:cubicBezTo>
                  <a:pt x="16211" y="20598"/>
                  <a:pt x="20598" y="16211"/>
                  <a:pt x="20598" y="10800"/>
                </a:cubicBezTo>
                <a:cubicBezTo>
                  <a:pt x="20598" y="5389"/>
                  <a:pt x="16211" y="1002"/>
                  <a:pt x="10800" y="1002"/>
                </a:cubicBezTo>
                <a:cubicBezTo>
                  <a:pt x="5389" y="1002"/>
                  <a:pt x="1002" y="5389"/>
                  <a:pt x="1002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3"/>
          <a:stretch/>
        </p:blipFill>
        <p:spPr>
          <a:xfrm>
            <a:off x="0" y="1268280"/>
            <a:ext cx="6381720" cy="4335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4"/>
          <a:stretch/>
        </p:blipFill>
        <p:spPr>
          <a:xfrm>
            <a:off x="0" y="1268280"/>
            <a:ext cx="6372360" cy="43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fbf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360" y="-2092320"/>
            <a:ext cx="979200" cy="81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-2916360" y="30312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4"/>
          <p:cNvSpPr/>
          <p:nvPr/>
        </p:nvSpPr>
        <p:spPr>
          <a:xfrm>
            <a:off x="1763640" y="1197000"/>
            <a:ext cx="1368360" cy="136836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02" y="10800"/>
                </a:moveTo>
                <a:cubicBezTo>
                  <a:pt x="1002" y="16211"/>
                  <a:pt x="5389" y="20598"/>
                  <a:pt x="10800" y="20598"/>
                </a:cubicBezTo>
                <a:cubicBezTo>
                  <a:pt x="16211" y="20598"/>
                  <a:pt x="20598" y="16211"/>
                  <a:pt x="20598" y="10800"/>
                </a:cubicBezTo>
                <a:cubicBezTo>
                  <a:pt x="20598" y="5389"/>
                  <a:pt x="16211" y="1002"/>
                  <a:pt x="10800" y="1002"/>
                </a:cubicBezTo>
                <a:cubicBezTo>
                  <a:pt x="5389" y="1002"/>
                  <a:pt x="1002" y="5389"/>
                  <a:pt x="1002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3564000" y="1341360"/>
            <a:ext cx="1368360" cy="1368360"/>
          </a:xfrm>
          <a:custGeom>
            <a:avLst/>
            <a:gdLst>
              <a:gd name="textAreaLeft" fmla="*/ 200160 w 1368360"/>
              <a:gd name="textAreaRight" fmla="*/ 1168200 w 1368360"/>
              <a:gd name="textAreaTop" fmla="*/ 200160 h 1368360"/>
              <a:gd name="textAreaBottom" fmla="*/ 11682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02" y="10800"/>
                </a:moveTo>
                <a:cubicBezTo>
                  <a:pt x="1002" y="16211"/>
                  <a:pt x="5389" y="20598"/>
                  <a:pt x="10800" y="20598"/>
                </a:cubicBezTo>
                <a:cubicBezTo>
                  <a:pt x="16211" y="20598"/>
                  <a:pt x="20598" y="16211"/>
                  <a:pt x="20598" y="10800"/>
                </a:cubicBezTo>
                <a:cubicBezTo>
                  <a:pt x="20598" y="5389"/>
                  <a:pt x="16211" y="1002"/>
                  <a:pt x="10800" y="1002"/>
                </a:cubicBezTo>
                <a:cubicBezTo>
                  <a:pt x="5389" y="1002"/>
                  <a:pt x="1002" y="5389"/>
                  <a:pt x="1002" y="1080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0"/>
            <a:ext cx="6516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6392880" y="0"/>
            <a:ext cx="275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0" y="977760"/>
            <a:ext cx="6372360" cy="4346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0" y="1201680"/>
            <a:ext cx="6443640" cy="42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56:48Z</dcterms:created>
  <dc:creator>bcremoni</dc:creator>
  <dc:description/>
  <dc:language>en-US</dc:language>
  <cp:lastModifiedBy>Paola</cp:lastModifiedBy>
  <dcterms:modified xsi:type="dcterms:W3CDTF">2013-12-30T18:42:43Z</dcterms:modified>
  <cp:revision>130</cp:revision>
  <dc:subject/>
  <dc:title>Presentazione di PowerPoint</dc:title>
</cp:coreProperties>
</file>